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12.png" ContentType="image/png"/>
  <Override PartName="/ppt/media/image7.wmf" ContentType="image/x-wmf"/>
  <Override PartName="/ppt/media/image8.wmf" ContentType="image/x-wmf"/>
  <Override PartName="/ppt/media/image2.png" ContentType="image/png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02E4-094E-4FE9-9E22-4F0A920CC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AD88-43C1-4979-A2F0-AACFD346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D048-E1E3-4B90-B43D-31A3FC6EB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A420-25F9-491D-BD96-F47EBD61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D6A4-C827-49B8-B539-B0EC73FF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B578-B188-4A93-B01B-6493D168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7693-69F8-46B3-93F6-3009EBE6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DDD6-BB09-4B31-B879-DEAAE9B7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52D1-F35D-4833-807C-D7B4A772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6D5D-37D4-43E5-AA00-087DF827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211D-1C0B-4F70-BA7D-3CCAE538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8F07-D767-45C6-826B-DA685F4A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9FF1-27A9-4DE4-A743-5F2621AEB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71600" y="-1143000"/>
            <a:ext cx="6622920" cy="8001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vive en el zool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ógic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alt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0" r="1471" b="0"/>
          <a:stretch/>
        </p:blipFill>
        <p:spPr>
          <a:xfrm>
            <a:off x="609480" y="1239840"/>
            <a:ext cx="792504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ápido o lent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4815000" cy="5029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715000" y="2819520"/>
            <a:ext cx="274320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grande  o  peque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ño/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6324840" cy="4689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010280" y="4572000"/>
            <a:ext cx="91440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vive en la tierr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vive en el agu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457200" y="1295280"/>
            <a:ext cx="91440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ie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a col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smug cat high tail"/>
          <p:cNvPicPr/>
          <p:nvPr/>
        </p:nvPicPr>
        <p:blipFill>
          <a:blip r:embed="rId1"/>
          <a:stretch/>
        </p:blipFill>
        <p:spPr>
          <a:xfrm>
            <a:off x="533520" y="228600"/>
            <a:ext cx="44132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iene </a:t>
            </a:r>
            <a:br>
              <a:rPr sz="66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as 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               alet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56451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iene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             las pat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457200" y="2895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858960"/>
            <a:ext cx="5791320" cy="50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amin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0" r="1601" b="0"/>
          <a:stretch/>
        </p:blipFill>
        <p:spPr>
          <a:xfrm>
            <a:off x="457200" y="1116000"/>
            <a:ext cx="8172360" cy="57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or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0" r="1315" b="0"/>
          <a:stretch/>
        </p:blipFill>
        <p:spPr>
          <a:xfrm>
            <a:off x="762120" y="1382760"/>
            <a:ext cx="779148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nad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0" r="1030" b="0"/>
          <a:stretch/>
        </p:blipFill>
        <p:spPr>
          <a:xfrm>
            <a:off x="609480" y="1079640"/>
            <a:ext cx="8001000" cy="56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01:36:05Z</dcterms:created>
  <dc:creator>System User</dc:creator>
  <dc:description/>
  <dc:language>en-US</dc:language>
  <cp:lastModifiedBy>System User</cp:lastModifiedBy>
  <dcterms:modified xsi:type="dcterms:W3CDTF">2011-05-12T02:48:00Z</dcterms:modified>
  <cp:revision>6</cp:revision>
  <dc:subject/>
  <dc:title>Slide 1</dc:title>
</cp:coreProperties>
</file>